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ready.wav" ContentType="audio/x-wav"/>
  <Override PartName="/ppt/media/image1.jpeg" ContentType="image/jpeg"/>
  <Override PartName="/ppt/media/xmbell.wav" ContentType="audio/x-wav"/>
  <Override PartName="/ppt/media/LASER.WAV" ContentType="audio/x-wav"/>
  <Override PartName="/ppt/media/image2.wmf" ContentType="image/x-wmf"/>
  <Override PartName="/ppt/media/bird2.wav" ContentType="audio/x-wav"/>
  <Override PartName="/ppt/media/oops.wav" ContentType="audio/x-wav"/>
  <Override PartName="/ppt/media/zoomin.wav" ContentType="audio/x-wav"/>
  <Override PartName="/ppt/media/image3.png" ContentType="image/png"/>
  <Override PartName="/ppt/media/airplane.wav" ContentType="audio/x-wav"/>
  <Override PartName="/ppt/media/glass1.wav" ContentType="audio/x-wav"/>
  <Override PartName="/ppt/media/sneeze.wav" ContentType="audio/x-wav"/>
  <Override PartName="/ppt/media/urgent.wav" ContentType="audio/x-wav"/>
  <Override PartName="/ppt/media/bird1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1171-A69D-4E24-B07A-0C8DC2EE1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B2D5-FAA5-40AB-A463-BA17D00DE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596-0413-4F45-A515-F44E78CF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1B70-C894-451B-9D7F-155FC050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E4D-8486-41E9-AAC9-9F5A1093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D260-0AC8-43E8-9043-9829D50C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9CCB-5A70-477A-A3B6-08A2197F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B12C-9358-478B-A392-78E64E88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5ECF-A8CE-4403-8654-2B7E2B5D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4F47-8F5C-4902-A2CA-6670EA2E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D357-3D8F-457A-A0D0-790CCD8E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62EB-A6E2-441A-8E70-C0F3D772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FB4C-C071-4EC1-9948-65AD95A0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8BF6-962B-4EC6-80DA-356E9EFF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DAE5-F057-47F0-966B-1C1826E8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57B1-5068-48E5-803F-086B6BEC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56FD-16D4-453A-8646-C65C63C5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576B-5F2B-4A25-998F-381EE4D3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AFF2-5E7B-4C58-A1D5-E413BF0D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75C-6EFF-4318-AB6A-98CDB66D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BE94-E628-4CCF-833A-0DC64534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1442-8D5D-4CB4-B160-DC65E4F6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4DA-CDF7-4DDC-A64E-98B7D6FE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14E6-E26D-448F-9FD4-CF9E8473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4941-AF6F-45AD-A018-977A16E1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E52D-88E5-466F-BD97-73B93E9F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F1F5-47D5-476A-B6FB-D93464088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3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4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378000" y="1676520"/>
                <a:ext cx="8370720" cy="221112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"/>
              <p:cNvSpPr/>
              <p:nvPr/>
            </p:nvSpPr>
            <p:spPr>
              <a:xfrm>
                <a:off x="396720" y="1676520"/>
                <a:ext cx="8371080" cy="221112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7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8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1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2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4026-8535-4D14-B55F-2E66908E3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airplane.wav"/><Relationship Id="rId4" Type="http://schemas.openxmlformats.org/officeDocument/2006/relationships/audio" Target="../media/zoomin.wav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glass1.wav" TargetMode="External"/><Relationship Id="rId3" Type="http://schemas.microsoft.com/office/2007/relationships/media" Target="file:///tmp/home/.config/libreoffice/4/user/gallery/glass1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1.wav"/><Relationship Id="rId3" Type="http://schemas.openxmlformats.org/officeDocument/2006/relationships/audio" Target="../media/sneez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xmbell.wav"/><Relationship Id="rId3" Type="http://schemas.openxmlformats.org/officeDocument/2006/relationships/audio" Target="../media/urgent.wav"/><Relationship Id="rId4" Type="http://schemas.openxmlformats.org/officeDocument/2006/relationships/audio" Target="../media/urgent.wav"/><Relationship Id="rId5" Type="http://schemas.openxmlformats.org/officeDocument/2006/relationships/audio" Target="../media/urgent.wav"/><Relationship Id="rId6" Type="http://schemas.openxmlformats.org/officeDocument/2006/relationships/audio" Target="../media/urgent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1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ird2.wav"/><Relationship Id="rId3" Type="http://schemas.openxmlformats.org/officeDocument/2006/relationships/audio" Target="../media/bird1.wav"/><Relationship Id="rId4" Type="http://schemas.openxmlformats.org/officeDocument/2006/relationships/audio" Target="../media/bird1.wav"/><Relationship Id="rId5" Type="http://schemas.openxmlformats.org/officeDocument/2006/relationships/audio" Target="../media/bird1.wav"/><Relationship Id="rId6" Type="http://schemas.openxmlformats.org/officeDocument/2006/relationships/audio" Target="../media/bird1.wav"/><Relationship Id="rId7" Type="http://schemas.openxmlformats.org/officeDocument/2006/relationships/audio" Target="../media/bird1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oops.wav"/><Relationship Id="rId3" Type="http://schemas.openxmlformats.org/officeDocument/2006/relationships/audio" Target="../media/ready.wav"/><Relationship Id="rId4" Type="http://schemas.openxmlformats.org/officeDocument/2006/relationships/audio" Target="../media/ready.wav"/><Relationship Id="rId5" Type="http://schemas.openxmlformats.org/officeDocument/2006/relationships/audio" Target="../media/ready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irpla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oom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62120" y="1600200"/>
            <a:ext cx="8001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54752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9"/>
                </p:tgtEl>
              </p:cMediaNode>
            </p:audio>
            <p:seq>
              <p:cTn id="2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with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d that describes a verb is an ADVERB. Some adverbs answer the question “how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og barked LOUD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iger waits PATIEN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irl sits QUIE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n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rbs that te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nd Wh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dverbs answer the question “Where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beautiful pictures IN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dverbs answer the question “When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travel to the beach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xm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urge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urge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urge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urge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rbs That Comp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ng two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dverb ends in -ly, u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y work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steadi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n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adverbs, use the end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w r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n the sn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rbs That Comp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ng three or more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dverb ends in -ly, u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man sa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beautifu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adverbs, use the end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orked the hard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ll the ins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ird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ird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ird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ird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ird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ird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Words That Mean “NO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ful speakers do not use two words that mean no (not, none, nobody, never, etc…) in the same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ong: I d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named S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: I don’t know anyone named S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o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a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a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ea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18:43:56Z</dcterms:created>
  <dc:creator>Salem City</dc:creator>
  <dc:description/>
  <dc:language>en-US</dc:language>
  <cp:lastModifiedBy>teacher</cp:lastModifiedBy>
  <cp:lastPrinted>2003-04-04T14:55:45Z</cp:lastPrinted>
  <dcterms:modified xsi:type="dcterms:W3CDTF">2011-01-19T00:27:12Z</dcterms:modified>
  <cp:revision>6</cp:revision>
  <dc:subject/>
  <dc:title>ADVERBS</dc:title>
</cp:coreProperties>
</file>